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98A-8958-4FB5-9A57-83F8B007A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3058-0B84-4F1E-9608-4DF41AF2D6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C396-05C0-4D6B-93D4-6EE4F4245A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0A9E-A27E-416A-A9F1-F89B5F5EB1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923-18BD-4313-A812-8887636159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6552-2128-482F-B9E1-096F69FBBE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9F5-C6F9-4233-A7B6-AC89AED82F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06C-6452-4AD9-B081-C3F9C78FE0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16E-37EB-417B-BBA9-4D87AC41EE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990-25C4-45A8-9BA2-66BED6E987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35CE-E1A6-4CE4-9968-BB5C306BE2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EFB-6998-4C9C-B9A8-8CFBDCBDB2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AEE-C726-4CEB-B6CA-4A97224B92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1BE1-B418-4CE6-B51C-690DA10FE6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70F2-E6F9-4EC5-B446-19608CC210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BF7-EFE7-47B3-8883-F251A403B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6EC-5555-4FC5-AAB4-241A927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5B4-102C-490B-B8A6-9893D6E6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6D5-B2E2-47B5-B297-B35382B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344-B997-406A-9897-4EC8C6AB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F00B-74DB-4F8F-9870-1F6C1550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B1A0-CA64-41F8-B9FF-473B535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BB5E-44D1-4873-92D0-12DB116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F4A-8610-4538-852A-63E5EDF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095-7924-44FB-BA48-77E9744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4859-AAFB-4EDD-9345-4CAC866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606-1102-41BC-B2AF-CDFF8E0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049-2688-4E96-8199-4B66F01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FE1-3208-4CF9-92C6-FD004AD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D093-0C8F-439F-AC23-6A39C0D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31CB-34FF-4430-BB40-1480ABA4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9A4-5381-4928-8FB7-D3EFEF1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146-BF04-4296-8DFA-231E9980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1A9-9069-4226-B716-307FF7BF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1AD-86EE-4478-8084-7EB97A83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1B0-243C-4006-9945-44A28111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618-2D32-4C86-901A-DD1ABF9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CD0-2180-461D-90B9-D7D6AB2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CA-72D4-4D1F-8283-5EFD0999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14F-89DD-4E6D-AC71-F17F0B7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ED40-5286-4352-B27A-AE69CEABE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A3D-BDEE-4FB1-AA1E-7EE7179C3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Au supermarch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s al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escarg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pou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évis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7600" y="22856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â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t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millefeui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huît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beu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lang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croiss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sauci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ch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harcut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rôti de bœu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jamb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l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oissonn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bouch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3200" spc="-1" strike="noStrike">
                <a:solidFill>
                  <a:srgbClr val="000000"/>
                </a:solidFill>
                <a:latin typeface="Tahoma"/>
              </a:rPr>
              <a:t>à la pâtiss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escarg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pou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’abord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suite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fin, tu dois all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ontexte / Tâ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tre mère vous a donné une liste de choses à ache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is, vous ne savez pas où il faut aller pour les ache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, lisez votre liste à votre partena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Une personne se mettra le dos à l’écra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/Elle va vous dire où il faut aller et en quel or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160" y="2285640"/>
            <a:ext cx="4647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 des baguettes, un biftek et des œuf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 la boulangerie. Ensuite, tu dois aller à la boucherie. Enfin, tu dois aller à la crémer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baquet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bif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oeu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57600" y="22856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9480" y="2438280"/>
            <a:ext cx="2971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â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t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pois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millefeui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huît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beu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CHANGEZ DE RÔLE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33920" y="22856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fro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croiss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 sauci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9520" y="2285640"/>
            <a:ext cx="533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1: Je dois acheter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2: D’abord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suite, tu dois aller à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Enfin, tu dois aller à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09480" y="2438280"/>
            <a:ext cx="3200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 rôti de bœu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jamb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u l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À vous de choisir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6T18:42:59Z</dcterms:modified>
  <cp:revision>91</cp:revision>
  <dc:subject/>
  <dc:title>Allez, viens! – Level 2</dc:title>
</cp:coreProperties>
</file>